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05AF34-78F0-405B-89E0-6D7A5395FA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2A3C55-6CF1-4CDB-8ECB-8BBD38D840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54BED5-99FD-4717-9E0B-33AB0A35A6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2C310FC-2E48-49E6-8CB3-96DFABDC72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DD411C-0E0A-4AC5-B6FA-2FBCA16F81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D3406-4304-435A-BA4E-BA06737E0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386E9-6B48-45F1-88FE-F847987B4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C87EA-2E68-4CB6-AF07-28E5B4AA6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E8320-2478-407F-A1C8-705619A2D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57E4F-0133-4343-99BA-A9C09D0F5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B57EF-CB52-4852-81E9-A006ECFC7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A2BEF5-4F76-4E8A-A499-B50B173129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1D2D6-71BB-4472-A9FA-B73200491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AE0E2-2FB3-47F9-9DE8-3A1279A74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5D0A5-82D1-4D96-9856-921E2DCD6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B663FB-EA10-417C-9D4D-740CABEFA1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40CF98-D2AB-4D27-8E49-D10C5C6A4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A44E76-CEEF-45E2-B671-368FD0F193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DBFA1F-25AF-4439-BA01-A96FFD1E40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8E2446-273A-4FAE-83E5-8F61F49EAE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D3E548-C32B-4B68-89CD-FD63092C88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6038D7-D814-4114-B3F2-0CE3D59E98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1F44C4-3939-470C-B8D7-BC850A7AF9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2EEF09-F109-4B26-A402-DB575ED2656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E786-AC5C-489E-B3C0-E15A3416CF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7DEF5-A994-4A26-9F8D-F5007C9E4D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 Process Model for Software Quality Assurance</a:t>
            </a:r>
            <a:endParaRPr b="0" lang="en-US" sz="34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44</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FA65631-8C3D-4EE3-BF8F-19C45FA6E2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QA process is based on relationships, interfaces, and tasks that are defined in other project plans (for example, project management plan, configuration management pl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C26338-1C08-4841-B237-BAEDD5869E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gnificant task to be addressed by SQA is coordination of risk management to assist project management. This involves scheduling and convening regular meetings to address risk management, maintaining lists of active risks, and tracking status of risk mitigation plans for project manage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529F2A-5DB7-439F-9AC0-8FDF41CD6A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A must be actively involved in review meetings (including, but not limited to, peer reviews and formal design reviews with the custom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QA organization must be actively involved in monitoring the test program on the projec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65A90A-9C32-40A5-BEAD-94D75D8E47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significant formally controlled documents (for example, SQA plan, risk management plan, metrics plan) result from performance of the SQA</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9A4545-B711-4550-A990-0B01C10341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h a model is vital for effectively identifying, estimating, and performing SQA tasks</a:t>
            </a:r>
            <a:endParaRPr b="0" lang="en-US" sz="2800" spc="-1" strike="noStrike">
              <a:solidFill>
                <a:srgbClr val="000000"/>
              </a:solidFill>
              <a:latin typeface="Arial"/>
            </a:endParaRPr>
          </a:p>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ey to effective SQA is the development of an SQA plan to serve as a contract between the project team and the SQA organization</a:t>
            </a:r>
            <a:endParaRPr b="0" lang="en-US" sz="2800" spc="-1" strike="noStrike">
              <a:solidFill>
                <a:srgbClr val="000000"/>
              </a:solidFill>
              <a:latin typeface="Arial"/>
            </a:endParaRPr>
          </a:p>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QA plan must be based on the process model that identifies the specific tasks SQA needs to perform to effectively support the project tea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F2966C-36FA-4387-B90B-CFBA850F51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QA process model has eight sub- processes</a:t>
            </a:r>
            <a:endParaRPr b="0" lang="en-US" sz="28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program/project-level plans</a:t>
            </a:r>
            <a:endParaRPr b="0" lang="en-US" sz="24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quality assurance plan</a:t>
            </a:r>
            <a:endParaRPr b="0" lang="en-US" sz="24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metrics</a:t>
            </a:r>
            <a:endParaRPr b="0" lang="en-US" sz="24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risk program</a:t>
            </a:r>
            <a:endParaRPr b="0" lang="en-US" sz="24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audits</a:t>
            </a:r>
            <a:endParaRPr b="0" lang="en-US" sz="24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review meetings</a:t>
            </a:r>
            <a:endParaRPr b="0" lang="en-US" sz="24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process improvement</a:t>
            </a:r>
            <a:endParaRPr b="0" lang="en-US" sz="24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test program</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BB65CC-22A7-441D-AC21-B620C88354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ftware Quality Assurance Level 1 IPO Diagram</a:t>
            </a:r>
            <a:endParaRPr b="0" lang="en-US" sz="4000" spc="-1" strike="noStrike">
              <a:solidFill>
                <a:srgbClr val="000000"/>
              </a:solidFill>
              <a:latin typeface="Arial"/>
            </a:endParaRPr>
          </a:p>
        </p:txBody>
      </p:sp>
      <p:pic>
        <p:nvPicPr>
          <p:cNvPr id="155" name="" descr=""/>
          <p:cNvPicPr/>
          <p:nvPr/>
        </p:nvPicPr>
        <p:blipFill>
          <a:blip r:embed="rId1"/>
          <a:stretch/>
        </p:blipFill>
        <p:spPr>
          <a:xfrm>
            <a:off x="380880" y="1986120"/>
            <a:ext cx="8382240" cy="4491000"/>
          </a:xfrm>
          <a:prstGeom prst="rect">
            <a:avLst/>
          </a:prstGeom>
          <a:ln w="0">
            <a:noFill/>
          </a:ln>
        </p:spPr>
      </p:pic>
      <p:sp>
        <p:nvSpPr>
          <p:cNvPr id="3" name="PlaceHolder 2"/>
          <p:cNvSpPr>
            <a:spLocks noGrp="1"/>
          </p:cNvSpPr>
          <p:nvPr>
            <p:ph type="sldNum" idx="2"/>
          </p:nvPr>
        </p:nvSpPr>
        <p:spPr/>
        <p:txBody>
          <a:bodyPr/>
          <a:p>
            <a:fld id="{76AF3430-D416-4A27-B741-306A066DF0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Review Project Plans</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ject-level plans must be reviewed prior to publication of SQA plan</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the publication of the SQA plan occurs in the same time frame as publication of these other project-level plans, review of the project-level plans is necessary to determine that they are consistent, correct, and of acceptable qualit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FEDDFB-3835-4AC9-B3B7-6DBDAAD780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view also identifies top-level tasks that SQA is tasked to performed (specified in these other plans), and identifies the interfaces between SQA and other groups in the development organization</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lans to be reviewed are configuration management plan, project management plan, software development plan, configuration system, and standards/templat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FE3374-B8AF-4BD1-9F1F-198F47E27F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st plan is not reviewed at this point in the project; it is not normally written until after the requirements are generated. Thus, the test plan is developed later than the document review that is taking place in this proces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9C4D86-2393-4EC2-B337-2E8CA56912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is course, we have been talking about software quality, software quality assurance, and related activities in the software development life cyc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e’ll talk about a process model of software quality assuran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369171-5FB3-4F39-9B63-654287E00F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hree sub-processes that are components of the review project-plans proces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project management pla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configuration management pla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software development pla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A6C474-ACCB-41F9-B68E-5430FB19CB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ers of the SQA organization should review each of these plans and report on the results of the review</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view should determine that the project plans are complete, consistent, and correc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EEAD48-740B-4AFF-A817-FF8965231B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s from these processes are simpl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ed list of issues found while reviewing the various pla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A-approved project pla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B8563A-3E30-45DC-9AE9-F10432A294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Develop QA Plan</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of developing SQA plan, SQA tasks to be performed on the program or project are formally documented</a:t>
            </a:r>
            <a:endParaRPr b="0" lang="en-US" sz="2800" spc="-1" strike="noStrike">
              <a:solidFill>
                <a:srgbClr val="000000"/>
              </a:solidFill>
              <a:latin typeface="Arial"/>
            </a:endParaRPr>
          </a:p>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QA plan provides a road map to the activities that the SQA organization will perform</a:t>
            </a:r>
            <a:endParaRPr b="0" lang="en-US" sz="2800" spc="-1" strike="noStrike">
              <a:solidFill>
                <a:srgbClr val="000000"/>
              </a:solidFill>
              <a:latin typeface="Arial"/>
            </a:endParaRPr>
          </a:p>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entially, the SQA plan serves as a formal contract between the SQA organization and the other groups on the project, specifying what tasks will be performed, according to what schedul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EE3A11-14AE-4DBA-991E-D0B7DE4734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s for this activities are</a:t>
            </a:r>
            <a:endParaRPr b="0" lang="en-US" sz="28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development life cycle, as defined in the project management plan</a:t>
            </a:r>
            <a:endParaRPr b="0" lang="en-US" sz="24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plans</a:t>
            </a:r>
            <a:endParaRPr b="0" lang="en-US" sz="2400" spc="-1" strike="noStrike">
              <a:solidFill>
                <a:srgbClr val="000000"/>
              </a:solidFill>
              <a:latin typeface="Arial"/>
            </a:endParaRPr>
          </a:p>
          <a:p>
            <a:pPr lvl="2" marL="1074240" indent="-21456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ment plan</a:t>
            </a:r>
            <a:endParaRPr b="0" lang="en-US" sz="2000" spc="-1" strike="noStrike">
              <a:solidFill>
                <a:srgbClr val="000000"/>
              </a:solidFill>
              <a:latin typeface="Arial"/>
            </a:endParaRPr>
          </a:p>
          <a:p>
            <a:pPr lvl="2" marL="1074240" indent="-21456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 plan</a:t>
            </a:r>
            <a:endParaRPr b="0" lang="en-US" sz="2000" spc="-1" strike="noStrike">
              <a:solidFill>
                <a:srgbClr val="000000"/>
              </a:solidFill>
              <a:latin typeface="Arial"/>
            </a:endParaRPr>
          </a:p>
          <a:p>
            <a:pPr lvl="2" marL="1074240" indent="-21456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development plan</a:t>
            </a:r>
            <a:endParaRPr b="0" lang="en-US" sz="20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s</a:t>
            </a:r>
            <a:endParaRPr b="0" lang="en-US" sz="24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specifically, IEEE-Standard-730, Standard for Software Quality Assurance Pla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F474B9-EF6D-456B-B6D3-97622105A4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hirteen (13) sub-processes associated with SQA plann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eleven (11) sections that make up an SQA plan, as defined in IEEE-Standard-730</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nal two sub-processes identify the tasks required to document, assemble, and review the SQA pla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BCE87F-5DB6-428B-A050-7C307023AF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Processes - 1</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QA plan introductio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management sectio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documentation requirement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standard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reviews and audit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CM interface</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defect report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F44B03-41E3-4B49-8309-F81DE5DCE0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Processes - 2</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metrics strateg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ools and techniqu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supplier contro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records approa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SQA pl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and approve SQA pla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E9AB48-796D-4B4A-8B96-F5D5108D12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oordinate Metrics</a:t>
            </a: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ub-process defines the activities and tasks that SQA performs while coordinating and collecting metric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s ar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anagement pla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 tracking syste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databas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etrics dat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metrics dat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841085-C843-4404-B593-906C97108D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ine (9) sub-processes associated with coordinate metric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process and products metrics are address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rics reports must be published in a timely manner so that any course of corrections indicated by the metrics can be made quickl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65EF2B-9139-4BEC-AC3F-91A37B2AFE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nagers and personnel who have worked in a software quality assurance have a process that represents the way an SQA organization operates</a:t>
            </a:r>
            <a:endParaRPr b="0" lang="en-US" sz="2800" spc="-1" strike="noStrike">
              <a:solidFill>
                <a:srgbClr val="000000"/>
              </a:solidFill>
              <a:latin typeface="Arial"/>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mature software organizations have an SQA process that is defined by a set of standards for documentation and operations. Other smaller firms may have a less well-defined and more ad-hoc process; the primary repository for information regarding this process is in the minds of its SQA personnel</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14E34B-8843-45A2-AD89-051D6059D2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Processes</a:t>
            </a: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metrics strateg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metrics database schema</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metrics pla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metrics pla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measurement data</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metric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trend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metrics repor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 metrics process and pla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1E9D3E9-2BB6-441D-91EC-9AC9416750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from the process includ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ed metrics pla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databas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metrics status repor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BAAE9B-B656-4F04-A7FE-ECC34DD6A0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Coordinate Risk Program</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gnificant activity performed by an SQA organization is coordination of a formal risk management program on the project</a:t>
            </a:r>
            <a:endParaRPr b="0" lang="en-US" sz="2800" spc="-1" strike="noStrike">
              <a:solidFill>
                <a:srgbClr val="000000"/>
              </a:solidFill>
              <a:latin typeface="Arial"/>
            </a:endParaRPr>
          </a:p>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must remember that the ownership of risk management belongs to upper-level project management</a:t>
            </a:r>
            <a:endParaRPr b="0" lang="en-US" sz="2800" spc="-1" strike="noStrike">
              <a:solidFill>
                <a:srgbClr val="000000"/>
              </a:solidFill>
              <a:latin typeface="Arial"/>
            </a:endParaRPr>
          </a:p>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A can provide invaluable assistance to management, however, through coordination and day-to-day administration of risk management</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CBD0B5-AB10-49CD-9FE1-B4E9E75BD3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ordination can involve a number of activities, including but not limited to:</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ing regular meetings to address risk issues</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ing the risk meetings</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ing surveys of the development team (including the SQA and test engineering team) to identify areas of risk</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ing a database of risk issues</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ng and tracking risk reduction pla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6DA5C1-C692-4A66-B31E-F384242376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Coordinate Risk Program</a:t>
            </a: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s to the Coordinate Risk Program ar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level plans</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ment plan</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 plan</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QA plan</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lan</a:t>
            </a:r>
            <a:endParaRPr b="0" lang="en-US" sz="20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risk</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risk</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databa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0E4085-DCC3-47D5-A6E7-FD2EFF4103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types are defined as follow</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unknow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known know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known unknow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ine (9) sub-processes associated with Coordinate Risk Progra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1CFD1F-33FD-403A-BEAF-F67B7F41C0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Processes</a:t>
            </a: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risk pla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risk pla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plans, schedules for risk</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process and product risk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risk databas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risk assess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 risk control</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 risk meeting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risk repor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D48D5CF-492B-47E3-896F-3B748A451F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s from the coordinate risk program process includ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proces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statu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management pla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utes from risk meeting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ction-item lis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27AE88E-BAFA-4961-8664-FF988D770D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Perform Audits</a:t>
            </a: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for perform audits is one of the few activities remaining in modern quality assurance that can be described as a classic “policeman” activ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7B3437-B595-4B27-94E8-F250494812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s include</a:t>
            </a:r>
            <a:endParaRPr b="0" lang="en-US" sz="2800" spc="-1" strike="noStrike">
              <a:solidFill>
                <a:srgbClr val="000000"/>
              </a:solidFill>
              <a:latin typeface="Arial"/>
            </a:endParaRPr>
          </a:p>
          <a:p>
            <a:pPr lvl="1" marL="720720" indent="-2772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 materials (including requirements, criteria, checklists)</a:t>
            </a:r>
            <a:endParaRPr b="0" lang="en-US" sz="2400" spc="-1" strike="noStrike">
              <a:solidFill>
                <a:srgbClr val="000000"/>
              </a:solidFill>
              <a:latin typeface="Arial"/>
            </a:endParaRPr>
          </a:p>
          <a:p>
            <a:pPr lvl="1" marL="720720" indent="-2772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 system</a:t>
            </a:r>
            <a:endParaRPr b="0" lang="en-US" sz="2400" spc="-1" strike="noStrike">
              <a:solidFill>
                <a:srgbClr val="000000"/>
              </a:solidFill>
              <a:latin typeface="Arial"/>
            </a:endParaRPr>
          </a:p>
          <a:p>
            <a:pPr lvl="1" marL="720720" indent="-2772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 tracking system</a:t>
            </a:r>
            <a:endParaRPr b="0" lang="en-US" sz="2400" spc="-1" strike="noStrike">
              <a:solidFill>
                <a:srgbClr val="000000"/>
              </a:solidFill>
              <a:latin typeface="Arial"/>
            </a:endParaRPr>
          </a:p>
          <a:p>
            <a:pPr lvl="1" marL="720720" indent="-2772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templates</a:t>
            </a:r>
            <a:endParaRPr b="0" lang="en-US" sz="2400" spc="-1" strike="noStrike">
              <a:solidFill>
                <a:srgbClr val="000000"/>
              </a:solidFill>
              <a:latin typeface="Arial"/>
            </a:endParaRPr>
          </a:p>
          <a:p>
            <a:pPr lvl="1" marL="720720" indent="-2772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plans, including the test plan(s)</a:t>
            </a:r>
            <a:endParaRPr b="0" lang="en-US" sz="2400" spc="-1" strike="noStrike">
              <a:solidFill>
                <a:srgbClr val="000000"/>
              </a:solidFill>
              <a:latin typeface="Arial"/>
            </a:endParaRPr>
          </a:p>
          <a:p>
            <a:pPr lvl="1" marL="720720" indent="-2772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s</a:t>
            </a:r>
            <a:endParaRPr b="0" lang="en-US" sz="2400" spc="-1" strike="noStrike">
              <a:solidFill>
                <a:srgbClr val="000000"/>
              </a:solidFill>
              <a:latin typeface="Arial"/>
            </a:endParaRPr>
          </a:p>
          <a:p>
            <a:pPr lvl="1" marL="720720" indent="-2772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and templa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EEEF53-254A-4FAF-A8A0-3142CCF3BC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both cases, a process does exis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ing any better definition, the process is “the way SQA is done her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A4071A-D1BA-4B8D-BAEB-102B60D0BF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lly engaged SQA organization will also perform a number of less formal audits. These should be performed according to a documented and approved audit plan, and will include audits of the CM databas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 audits can include review of operator manual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ine (9) sub-process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619D49-2653-41A6-A8C6-64D38E1996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Processes</a:t>
            </a: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project plan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udit pla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audit pla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udit databas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process audi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product audi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physical configuration audit (PCA)</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functional configuration audit (FCA)</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 audit proces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4BE367D-4B42-4EEA-9221-EC61C934876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s from this includ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t checklis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t issu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t repor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item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d audit proces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3D5EC3-A385-4193-8B20-3BF24ADF66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Coordinate Review Meetings</a:t>
            </a:r>
            <a:endParaRPr b="0" lang="en-US" sz="4400" spc="-1" strike="noStrike">
              <a:solidFill>
                <a:srgbClr val="000000"/>
              </a:solidFill>
              <a:latin typeface="Arial"/>
            </a:endParaRPr>
          </a:p>
        </p:txBody>
      </p:sp>
      <p:sp>
        <p:nvSpPr>
          <p:cNvPr id="2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SQA organization is usually chartered with coordinating review meetings, on a project/program where these meetings are formally controlled</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reviews, a specific task for SQA personnel is to evaluate the process used in performing the reviews and report on that evaluation to manage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311052-5822-47CA-AF77-CE175447A7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s include</a:t>
            </a:r>
            <a:endParaRPr b="0" lang="en-US" sz="28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lists</a:t>
            </a:r>
            <a:endParaRPr b="0" lang="en-US" sz="24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anagement plan</a:t>
            </a:r>
            <a:endParaRPr b="0" lang="en-US" sz="24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plan</a:t>
            </a:r>
            <a:endParaRPr b="0" lang="en-US" sz="24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data packs</a:t>
            </a:r>
            <a:endParaRPr b="0" lang="en-US" sz="24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chedules</a:t>
            </a:r>
            <a:endParaRPr b="0" lang="en-US" sz="24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a:t>
            </a:r>
            <a:endParaRPr b="0" lang="en-US" sz="24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lates</a:t>
            </a:r>
            <a:endParaRPr b="0" lang="en-US" sz="24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ine (9) sub-process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4522716-D2C4-434B-847F-BBF02502C6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Processes</a:t>
            </a:r>
            <a:endParaRPr b="0" lang="en-US" sz="4400" spc="-1" strike="noStrike">
              <a:solidFill>
                <a:srgbClr val="000000"/>
              </a:solidFill>
              <a:latin typeface="Arial"/>
            </a:endParaRPr>
          </a:p>
        </p:txBody>
      </p:sp>
      <p:sp>
        <p:nvSpPr>
          <p:cNvPr id="2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peer review schedul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peer review) agenda templat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peer review meeting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 (peer review) action item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design review schedul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design review agenda templat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 design review data pack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design review meeting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 design review action item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CB69628-DA54-4184-A307-36D9CFB07E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s from this includ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item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agendas (for both peer reviews and design review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status reports (for both peer reviews and design review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98826A-A54E-4CCB-81B8-76C8104AAD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7. Facilitate Process Improvement</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ritical function of SQA organization in the current age is to facilitate process improve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ub-process is only applicable for an SQA group when the program/project organization does not have, or does not have access to, an SEP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EB662C-7981-401C-92BC-D9C9D407C2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if a corporate-level SEPG exists, it can be advantageous for the program/project dedicated SQA group to be responsible for some of the process improvement functions</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way, more general corporate-level initiatives can be tailored and adjusted to the needs of specific projec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3728A6-8A15-44A1-8E16-2FC9A4720F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s include</a:t>
            </a:r>
            <a:endParaRPr b="0" lang="en-US" sz="2800" spc="-1" strike="noStrike">
              <a:solidFill>
                <a:srgbClr val="000000"/>
              </a:solidFill>
              <a:latin typeface="Arial"/>
            </a:endParaRPr>
          </a:p>
          <a:p>
            <a:pPr lvl="1" marL="713160" indent="-2743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checklists</a:t>
            </a:r>
            <a:endParaRPr b="0" lang="en-US" sz="2400" spc="-1" strike="noStrike">
              <a:solidFill>
                <a:srgbClr val="000000"/>
              </a:solidFill>
              <a:latin typeface="Arial"/>
            </a:endParaRPr>
          </a:p>
          <a:p>
            <a:pPr lvl="1" marL="713160" indent="-2743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cesses</a:t>
            </a:r>
            <a:endParaRPr b="0" lang="en-US" sz="2400" spc="-1" strike="noStrike">
              <a:solidFill>
                <a:srgbClr val="000000"/>
              </a:solidFill>
              <a:latin typeface="Arial"/>
            </a:endParaRPr>
          </a:p>
          <a:p>
            <a:pPr lvl="1" marL="713160" indent="-2743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 9000</a:t>
            </a:r>
            <a:endParaRPr b="0" lang="en-US" sz="2400" spc="-1" strike="noStrike">
              <a:solidFill>
                <a:srgbClr val="000000"/>
              </a:solidFill>
              <a:latin typeface="Arial"/>
            </a:endParaRPr>
          </a:p>
          <a:p>
            <a:pPr lvl="1" marL="713160" indent="-2743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I Capability Maturity Model</a:t>
            </a:r>
            <a:endParaRPr b="0" lang="en-US" sz="2400" spc="-1" strike="noStrike">
              <a:solidFill>
                <a:srgbClr val="000000"/>
              </a:solidFill>
              <a:latin typeface="Arial"/>
            </a:endParaRPr>
          </a:p>
          <a:p>
            <a:pPr lvl="1" marL="713160" indent="-2743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Technology Business Group (ITBG) Testing Capability Maturity Model</a:t>
            </a:r>
            <a:endParaRPr b="0" lang="en-US" sz="2400" spc="-1" strike="noStrike">
              <a:solidFill>
                <a:srgbClr val="000000"/>
              </a:solidFill>
              <a:latin typeface="Arial"/>
            </a:endParaRPr>
          </a:p>
          <a:p>
            <a:pPr lvl="1" marL="713160" indent="-2743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Process Improvement Capability Determination (SPICE) model</a:t>
            </a:r>
            <a:endParaRPr b="0" lang="en-US" sz="24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has eight (8) sub-process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96CFAC2-70FB-42C7-9B39-1DE5A93D91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an organization do with a process model for software quality assurance?</a:t>
            </a:r>
            <a:endParaRPr b="0" lang="en-US" sz="32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ol to train new SQA engineers</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del to use in estimating</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del to use in the process improvement</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del to use to select or develop a set of standards and templates for SQA document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85AE75-46DF-436B-92A1-EB3925F598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Processes</a:t>
            </a:r>
            <a:endParaRPr b="0" lang="en-US" sz="4400" spc="-1" strike="noStrike">
              <a:solidFill>
                <a:srgbClr val="000000"/>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project plans</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process improvement opportunities</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process improvement plan</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for assessment</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assessment</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assessment result</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action plan progress</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 action pla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935C4C-2B89-4A8E-BA3F-948BC83787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s from this process includ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item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repor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improvement recommend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ic status repor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7CAF15-F793-49F4-894F-AF871FFAF3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Monitor Test Program</a:t>
            </a:r>
            <a:endParaRPr b="0" lang="en-US" sz="4400" spc="-1" strike="noStrike">
              <a:solidFill>
                <a:srgbClr val="000000"/>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nal sub-process within the QA process is monitor test program</a:t>
            </a:r>
            <a:endParaRPr b="0" lang="en-US" sz="2800" spc="-1" strike="noStrike">
              <a:solidFill>
                <a:srgbClr val="000000"/>
              </a:solidFill>
              <a:latin typeface="Arial"/>
            </a:endParaRPr>
          </a:p>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ub-process is designed around an SQA group that does not have responsibility for testing</a:t>
            </a:r>
            <a:endParaRPr b="0" lang="en-US" sz="2800" spc="-1" strike="noStrike">
              <a:solidFill>
                <a:srgbClr val="000000"/>
              </a:solidFill>
              <a:latin typeface="Arial"/>
            </a:endParaRPr>
          </a:p>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logical for the SQA organization to take responsibility for assuring that the testing process is performed according to the documented and approved test documentation (test plans, test designs, test cases, and test procedu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D17CFE3-96FA-4C33-8065-DDD2B2CBB7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s includ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documentation</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lan</a:t>
            </a:r>
            <a:endParaRPr b="0" lang="en-US" sz="20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design</a:t>
            </a:r>
            <a:endParaRPr b="0" lang="en-US" sz="20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cases</a:t>
            </a:r>
            <a:endParaRPr b="0" lang="en-US" sz="20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rocedures (if applicable)</a:t>
            </a:r>
            <a:endParaRPr b="0" lang="en-US" sz="20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summary report</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output dat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proces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eight (8) sub-process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9ED00F6-CC25-4A53-864A-2F1FC6ED53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Processes</a:t>
            </a:r>
            <a:endParaRPr b="0" lang="en-US" sz="4400" spc="-1" strike="noStrike">
              <a:solidFill>
                <a:srgbClr val="000000"/>
              </a:solidFill>
              <a:latin typeface="Arial"/>
            </a:endParaRPr>
          </a:p>
        </p:txBody>
      </p:sp>
      <p:sp>
        <p:nvSpPr>
          <p:cNvPr id="2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test metrics database</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test metrics</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test metrics</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est documentation</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test execution</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test process improvement</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test process</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test assessment repor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8471548-85BA-4F3E-906F-40A92A8C1E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s from this process includ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assessment report (including process improvement recommend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E8505A-90A5-4E21-B30A-39E7F48A54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Starts</a:t>
            </a:r>
            <a:endParaRPr b="0" lang="en-US" sz="4400" spc="-1" strike="noStrike">
              <a:solidFill>
                <a:srgbClr val="000000"/>
              </a:solidFill>
              <a:latin typeface="Arial"/>
            </a:endParaRPr>
          </a:p>
        </p:txBody>
      </p:sp>
      <p:sp>
        <p:nvSpPr>
          <p:cNvPr id="2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op-level model of the SQA/SQE process provides a generic mode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ecific SQA organization should tailor this model to fit its own environment and organiz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this SQA process model depends on the maturity of a specific SQA group</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4BED27-D09B-4C2E-BBAA-C4D0AAB962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mature SQA group that has a fully documented functional process, this process can be used as a sanity check</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re is anything in this process that the SQA group is not doing but which seems valuable, the group should add that process to its opera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3EE163-18A6-41F7-BC69-3989A8E7A4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mature group with a functional process that is not documented, these diagrams could be tailored to match the existing process. Then the process could be formally documen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25AF47-3A91-48BC-A43F-03657A4CF2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ocess model can be used as a training aid for junior SQA engine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ing of different SQA activiti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QA process model provides a tool for constructing a work breakdown structure in estimating the cost and schedule for SQA activiti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E10059-2EB9-4480-9806-BF9F7623FA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ol to show the scope of SQA activities to new developer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aphic for showing managers and developers the tasks SQA engineers perfor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0AC0A3-9442-4369-B50E-0152549C46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el establishes the framework and list of SQA tasks. Then completing the estimate becomes an exercise in using existing metrics data or engineering judgment to determine the elapsed time and staffing levels to complete each task</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each task can be entered into a schedule tracking package so activities can be scheduled and tracked on an ongoing basi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D63018C-A848-45F1-92A1-2366B72BAF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QA process model can be used as a guide to effective implementation of process improve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model as presented is “ideal”; a process model can also be developed that represents the current process in use by the SQA organiz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0C9AE7-8646-4867-8BBD-56FAE1DA6C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e’ve discussed a process model for software quality assurance/quality engineer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C9055D-03B2-4F2B-9AE6-464F848221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2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cess model of Software Quality Assurance/Software Quality Engineering by Roger Drabick, in SQP Vol. 2, No. 4, 2000, ASQ</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9AC356-1C43-4E4B-8D3B-1CFB300B9E86}" type="slidenum">
              <a:t>63</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p-level of the SQA process is shown graphically, using input-process-output (IPO) techniqu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61435C-9C46-4EBB-9E4D-507B404650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Following slide to be inserted</a:t>
            </a:r>
            <a:endParaRPr b="0" lang="en-US" sz="5000" spc="-1" strike="noStrike">
              <a:solidFill>
                <a:srgbClr val="ffffff"/>
              </a:solidFill>
              <a:latin typeface="Arial"/>
            </a:endParaRPr>
          </a:p>
        </p:txBody>
      </p:sp>
      <p:sp>
        <p:nvSpPr>
          <p:cNvPr id="12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oftware Quality Assurance Level 0 IPO Diagram</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F9C3465-03B7-410F-93EB-3B4E61325A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ftware Quality Assurance Level 0 IPO Diagram</a:t>
            </a:r>
            <a:endParaRPr b="0" lang="en-US" sz="4000" spc="-1" strike="noStrike">
              <a:solidFill>
                <a:srgbClr val="000000"/>
              </a:solidFill>
              <a:latin typeface="Arial"/>
            </a:endParaRPr>
          </a:p>
        </p:txBody>
      </p:sp>
      <p:sp>
        <p:nvSpPr>
          <p:cNvPr id="123" name=""/>
          <p:cNvSpPr/>
          <p:nvPr/>
        </p:nvSpPr>
        <p:spPr>
          <a:xfrm>
            <a:off x="3048120" y="2133720"/>
            <a:ext cx="2895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733920" y="21337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257800" y="21337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937960" y="172548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a:t>
            </a:r>
            <a:endParaRPr b="0" lang="en-US" sz="2000" spc="-1" strike="noStrike">
              <a:solidFill>
                <a:srgbClr val="000000"/>
              </a:solidFill>
              <a:latin typeface="Times New Roman"/>
            </a:endParaRPr>
          </a:p>
        </p:txBody>
      </p:sp>
      <p:sp>
        <p:nvSpPr>
          <p:cNvPr id="127" name=""/>
          <p:cNvSpPr/>
          <p:nvPr/>
        </p:nvSpPr>
        <p:spPr>
          <a:xfrm>
            <a:off x="5257440" y="172548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a:t>
            </a:r>
            <a:endParaRPr b="0" lang="en-US" sz="2000" spc="-1" strike="noStrike">
              <a:solidFill>
                <a:srgbClr val="000000"/>
              </a:solidFill>
              <a:latin typeface="Times New Roman"/>
            </a:endParaRPr>
          </a:p>
        </p:txBody>
      </p:sp>
      <p:sp>
        <p:nvSpPr>
          <p:cNvPr id="128" name=""/>
          <p:cNvSpPr/>
          <p:nvPr/>
        </p:nvSpPr>
        <p:spPr>
          <a:xfrm>
            <a:off x="3962160" y="1725480"/>
            <a:ext cx="95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129" name=""/>
          <p:cNvSpPr/>
          <p:nvPr/>
        </p:nvSpPr>
        <p:spPr>
          <a:xfrm>
            <a:off x="3728520" y="2165400"/>
            <a:ext cx="1451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ran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30" name=""/>
          <p:cNvSpPr/>
          <p:nvPr/>
        </p:nvSpPr>
        <p:spPr>
          <a:xfrm>
            <a:off x="304920" y="27432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943600" y="274320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4880" y="2819520"/>
            <a:ext cx="270144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m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 management pl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nagement pl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ftware development pl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pl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 data</a:t>
            </a:r>
            <a:endParaRPr b="0" lang="en-US" sz="1800" spc="-1" strike="noStrike">
              <a:solidFill>
                <a:srgbClr val="000000"/>
              </a:solidFill>
              <a:latin typeface="Times New Roman"/>
            </a:endParaRPr>
          </a:p>
        </p:txBody>
      </p:sp>
      <p:sp>
        <p:nvSpPr>
          <p:cNvPr id="133" name=""/>
          <p:cNvSpPr/>
          <p:nvPr/>
        </p:nvSpPr>
        <p:spPr>
          <a:xfrm>
            <a:off x="4495680" y="342900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151920" y="5410080"/>
            <a:ext cx="434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743200" y="2743200"/>
            <a:ext cx="0" cy="2666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43200" y="3505320"/>
            <a:ext cx="1695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 revie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ul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dated risk li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revie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ults</a:t>
            </a:r>
            <a:endParaRPr b="0" lang="en-US" sz="1800" spc="-1" strike="noStrike">
              <a:solidFill>
                <a:srgbClr val="000000"/>
              </a:solidFill>
              <a:latin typeface="Times New Roman"/>
            </a:endParaRPr>
          </a:p>
        </p:txBody>
      </p:sp>
      <p:sp>
        <p:nvSpPr>
          <p:cNvPr id="137" name=""/>
          <p:cNvSpPr/>
          <p:nvPr/>
        </p:nvSpPr>
        <p:spPr>
          <a:xfrm>
            <a:off x="5029200" y="34290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029200" y="54100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78720" y="5546880"/>
            <a:ext cx="163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issues</a:t>
            </a:r>
            <a:endParaRPr b="0" lang="en-US" sz="2000" spc="-1" strike="noStrike">
              <a:solidFill>
                <a:srgbClr val="000000"/>
              </a:solidFill>
              <a:latin typeface="Times New Roman"/>
            </a:endParaRPr>
          </a:p>
        </p:txBody>
      </p:sp>
      <p:sp>
        <p:nvSpPr>
          <p:cNvPr id="140" name=""/>
          <p:cNvSpPr/>
          <p:nvPr/>
        </p:nvSpPr>
        <p:spPr>
          <a:xfrm>
            <a:off x="6018480" y="2819520"/>
            <a:ext cx="26128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 pl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rics pl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 management minu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repor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 improv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commend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 item status</a:t>
            </a:r>
            <a:endParaRPr b="0" lang="en-US" sz="1800" spc="-1" strike="noStrike">
              <a:solidFill>
                <a:srgbClr val="000000"/>
              </a:solidFill>
              <a:latin typeface="Times New Roman"/>
            </a:endParaRPr>
          </a:p>
        </p:txBody>
      </p:sp>
      <p:sp>
        <p:nvSpPr>
          <p:cNvPr id="141" name=""/>
          <p:cNvSpPr/>
          <p:nvPr/>
        </p:nvSpPr>
        <p:spPr>
          <a:xfrm>
            <a:off x="5225760" y="5546880"/>
            <a:ext cx="248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improvement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99045076-35BC-4308-A9EA-60C4A3540C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9T09:03:09Z</dcterms:created>
  <dc:creator>Ghulam Ahmad Farrukh</dc:creator>
  <dc:description/>
  <dc:language>en-US</dc:language>
  <cp:lastModifiedBy>ahmadmohsin</cp:lastModifiedBy>
  <dcterms:modified xsi:type="dcterms:W3CDTF">2009-07-24T07:35:23Z</dcterms:modified>
  <cp:revision>312</cp:revision>
  <dc:subject/>
  <dc:title>A Process Model for Software Quality Assurance</dc:title>
</cp:coreProperties>
</file>